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28C-A4A0-4CDC-8AD1-6477C75D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D801-0B68-4E2B-999A-8E7BCF40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5CF-0F0B-4C00-8706-996C64ED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117E-5ADF-4895-BE09-473CCD04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577-232B-4017-A390-B6E3DB7E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425-ADEE-4DCB-A6E9-F6D16351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930-946A-44F4-AE4B-E01C26F1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AA0-02BF-4A03-AA45-7F937246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2D6-2073-4BA9-8C0A-6E37BE82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5E6-010A-438A-AE69-79140174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EE7-1D3A-4FBB-9802-6BC9C50D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BA8-B3D0-4F2E-B350-0EFC6036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BD68-7E16-40B3-AA66-0F63ACE629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6560" y="1371600"/>
            <a:ext cx="6994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hat Can Be D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Quantitativel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bou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358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80773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3657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3520" y="4267080"/>
            <a:ext cx="8076960" cy="685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14400" y="4191120"/>
            <a:ext cx="464832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3520" y="4952880"/>
            <a:ext cx="807696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7732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5334120"/>
            <a:ext cx="8077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3581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8077320" cy="68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0880" y="4952880"/>
            <a:ext cx="8077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4800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5257800"/>
            <a:ext cx="80773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8077320" cy="99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0880" y="4800600"/>
            <a:ext cx="8077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4724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5181480"/>
            <a:ext cx="80773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77320" cy="3353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807732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09480" y="4800600"/>
            <a:ext cx="8077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3733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7543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3311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8080" y="3857760"/>
            <a:ext cx="7543800" cy="942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7543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457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14400" y="5105520"/>
            <a:ext cx="7543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3387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54380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754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457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5105520"/>
            <a:ext cx="7543800" cy="990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086600" y="5638680"/>
            <a:ext cx="13716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3159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7543800" cy="990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010280" y="4191120"/>
            <a:ext cx="13716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38080" y="4648320"/>
            <a:ext cx="7543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11:55Z</dcterms:modified>
  <cp:revision>213</cp:revision>
  <dc:subject/>
  <dc:title>Slide 1</dc:title>
</cp:coreProperties>
</file>